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BFA-4D60-45CC-83E9-1F7B8A28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22F-CA16-4B42-8E21-78AAF45A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1DDB2-CFFA-4D6F-9461-5EEC310D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A37F1-4461-4EB9-8BBA-002DD936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A4BBA-BFF6-4DBE-B097-1541E947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B04B9-E683-4718-AF1C-D604C7A9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A357E-E7B7-490D-9FE7-D91F104E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B47D4-A45C-450B-A94E-B45D030A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A78F2-337D-4008-852B-E80DC73D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3D32E-0C7F-4EF8-88B9-7D7AD7D6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33C5E-647E-481A-A7AA-D1B416B2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C8B-0B21-4B93-A0B4-2084267A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87C-9FE9-432C-99CA-282CC941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37C5-E5C5-418C-BE10-C68B3673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0739-02F2-4009-96C7-2E06987E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E9CE-582C-4D52-80F4-E724AAD6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E503-E19F-4F7F-88EE-19D18289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E859-1EE4-4D31-A84A-3963207B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4FA3-7EE0-468C-9ECC-AC13E63B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C7DB-9271-4899-9A53-E59909C6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065-E1E9-4B5D-AFA2-85390771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46F7-046B-4807-83B9-58A7B12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01AB-BCAB-4C56-AE39-8F281340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A555-C00B-40C8-872E-B369DE9F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DD78-4093-4891-B8FA-A0E0DFB9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A743-3C0B-49ED-BB3A-BCF147DA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9CDE-19BD-4A5A-ABE6-4A385DBB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4F90-DA58-438D-91F8-129BE227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1ACC3-7626-4C16-A0F4-B7BE2584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D35AE-6CDD-4FA7-BB5B-07DDB134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2CD2-DBB2-424E-B142-A9A91185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FD8-ABB2-4B6A-9176-7A3FCA70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E706-5969-42BB-8F76-F4F3D496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F354-9A68-448F-A3B1-24DB0010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3FF7-894C-44AC-BF5A-DD00A8B1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60AB-8EB3-47F7-A23C-38E6FCEB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844D-BD86-4CA9-A0A6-B05264D6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F13C-63C7-46C5-955F-60271386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EC06-FDD1-48E1-9E30-C1EA9E3E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1E8C-03F7-4EE6-94E3-25EA4D9D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67EEA-85A1-4737-818B-4BD8264E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4481-D45D-457F-80C7-6D1257B1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FC3-8127-434F-947F-192D88E8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68DD0-56BC-438A-AF66-965335D6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1E323-36A1-4483-BBF1-32EA8C55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0243-F756-48C2-BAF8-ED9EC2ED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15D9-DB67-4909-9734-A2C997B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5C66-5DE4-48B3-B6D3-FF12DB17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B7903-475B-4386-B450-0A8885E4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53CB-9F1C-491A-A0CB-5C7F0C81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22BDB-4E7B-47C1-AA8A-3C8E513B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582C9-DD4F-4545-8CC9-7CC5D2E8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73C42-57A2-4F30-817A-6DF42C84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8E3-3B0A-4C5C-85B7-1BCB6058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99F34-61C2-4CF9-A56E-9AADDE35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36A1F-8870-42FF-A187-0C7C08E9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05187-A730-446E-BABE-9B1E6FBF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E5BE1-C18C-4D40-A984-C1082F23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6A777-F967-4C27-823B-524E5D97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082FA-0590-476B-B58C-18DB6D3E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451D5-4EDC-4C1F-A785-AA80AE5E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8AB5C-4784-443B-B04D-6DF1D0E3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9FEC-E3FD-44EF-9656-37B1BCAC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E921-7BA4-4D60-93DB-15556EAC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18F-432C-45A6-B88E-C3D92B2D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F7C2E-F805-4769-9AC1-95AE3122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A96E6-0A4E-4565-84A0-E906F236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CF1A1-60CB-411A-996E-B4DB5A92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AF52C-E614-4653-817B-3876E37B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BB4CD-1866-4281-92FB-DAFE9E85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ECD25-6929-48ED-A422-E01ED744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D88B4-21E4-4611-ACCC-A176A82C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6F9A1-89B4-4FB1-BF07-7BDCB19C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F67F2-2970-4D2D-AD9A-E1D4BB1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9886-D842-4882-AEDE-153DB05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6D4-A905-4E0D-B916-B9CD1450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67BB3-3B1F-4F7A-A4AE-1DC2A34B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529DB-CFF9-4713-BF86-9D7D71CB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9208D-98DE-42B5-A3AA-C40968A0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63DB0-A19C-456F-8E8B-AD1D19FD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27796-9A82-48DA-B8D9-046DA531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B6747-4938-42F0-ACEB-58D02209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53D68-254C-4A4B-9347-02AE82B6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935DE-E1F1-426E-9301-E585BE05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89BA6-A717-4C4A-92AA-5E1E1AD5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73B71-5FDE-48EC-BF8E-60B388D2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3C8-89A0-43CF-AF5D-156ACEF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DBC09-07E6-411A-BCE5-B3095B15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C2DFF-D84D-460E-AD57-B9D0E36D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7678-6C99-4751-811D-EC8E5CF4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7E610-2994-4159-851C-18810527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B2DFA-35CF-4D5C-8492-9DF8CB29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1FAEC-4AF5-456C-BC66-3ED479AE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0608D-E045-43DE-85AB-C6F8C27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9FA0F-A9F8-4DBB-82F9-23F35AA4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60FCA-EFF0-42D4-A3F1-144E5D23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66013-148B-46D7-89A3-153C6192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13F-F55F-4EB4-B624-EEC77797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22A12-B2C1-46FD-B073-8D668754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B4502-DB72-4894-AAF2-82253E3A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A6D09-CF4F-497C-B5FC-94056912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645D0-A1E6-427C-BB3D-712A7C1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EB517-2316-498E-9A70-684522B3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E4246-ED48-4F14-8447-FB116077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3E131-C89E-4433-9A67-60E65332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5C341-C162-4604-91F4-A835DC15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5C78D-738A-4E46-81B1-DFC4F2D7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0ABE4-F659-41DC-B6B7-FB018B05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21AD3-56F6-4664-ABB8-4560DFD6B766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14FE8-E952-4A64-A876-FB9C2AB59B8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898DB-8713-4CDA-BCA4-E287B935DC37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BC484-6C7E-4B2B-B138-B0338F0FB69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A383A-676C-4890-9827-0E622122424B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A0F2F-ADBD-4BC0-9DCC-13B1CA31DCA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6DBE3-A4B6-41CC-B864-D3B21ABA2DB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7B766-B0CF-4EC5-828E-580A7F23476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AAF23-467D-4517-8F37-2E0761C38D5D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C8831-FE76-48D3-B262-1F6E22FC1FB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54D79-28CB-49BD-8F99-44E21BAB79A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6596D-1A5B-43BD-B314-FF49BA81BEB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8C649-DF5C-48DA-8354-5FEC4EC58BC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43DE5-B277-4273-8042-34D831B6D88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256FC-574A-4A6E-8163-95954B4A05CD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FDF74-BB7F-4535-9A89-DA13F579357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76F11-6EE0-4C16-8D3B-FFA22A7FD605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73DFC-5297-4E0E-AAB4-95E6D8417DB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"/>
          <p:cNvSpPr/>
          <p:nvPr/>
        </p:nvSpPr>
        <p:spPr>
          <a:xfrm>
            <a:off x="901800" y="469800"/>
            <a:ext cx="7213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HFIP High-Resolution Hurrican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valuation by the Developmental Testbed Center (D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igia Bernardet, Louisa Nance et 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736560" y="1930320"/>
            <a:ext cx="814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Franklin Gothic Book"/>
              </a:rPr>
              <a:t>Runs for up to 69 cases at two or more horizontal grid spacings were submitted for evaluation of impact of resolution on track and intensity foreca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736560" y="3495600"/>
            <a:ext cx="81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odest improvement (a few lead times) were seen for HWRF-X (9 and 3 km) and AHW (13.5 and 1.5 km) in track and/or intensity. GFDL (9 and 6) showed no difference and COAMPS-TC (9 and 3) and UW-NM had some degraded tra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736560" y="481968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Franklin Gothic Book"/>
              </a:rPr>
              <a:t>May need better physics and/or initialization and/or higher-grid spacing to realize benefits of higher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TextBox 7" descr=""/>
          <p:cNvPicPr/>
          <p:nvPr/>
        </p:nvPicPr>
        <p:blipFill>
          <a:blip r:embed="rId2"/>
          <a:stretch/>
        </p:blipFill>
        <p:spPr>
          <a:xfrm>
            <a:off x="682560" y="2755800"/>
            <a:ext cx="8467920" cy="414360"/>
          </a:xfrm>
          <a:prstGeom prst="rect">
            <a:avLst/>
          </a:prstGeom>
          <a:ln w="0">
            <a:noFill/>
          </a:ln>
        </p:spPr>
      </p:pic>
      <p:pic>
        <p:nvPicPr>
          <p:cNvPr id="404" name="TextBox 8" descr=""/>
          <p:cNvPicPr/>
          <p:nvPr/>
        </p:nvPicPr>
        <p:blipFill>
          <a:blip r:embed="rId3"/>
          <a:stretch/>
        </p:blipFill>
        <p:spPr>
          <a:xfrm>
            <a:off x="731880" y="5694480"/>
            <a:ext cx="841860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4"/>
          <p:cNvSpPr/>
          <p:nvPr/>
        </p:nvSpPr>
        <p:spPr>
          <a:xfrm>
            <a:off x="736560" y="1384200"/>
            <a:ext cx="814068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HWRF has been developed at EMC based on WRF V2. Development has not kept pace with WRF general repository, now on V3.1.1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Research community has had no support to use HWRF code and there is no clear path for transitioning new developments onto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In collaboration with EMC, DTC is bridging this gap by adding HWRF physics and dynamics to general WRF repository to make HWRF a configuration of WR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Once code passes all performance tests, EMC has agreed to use code from general WRF repository in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The next public release of WRF (March 2010) will contain HWRF f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DTC will conduct a HWRF Tutorial in February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HWRF will be a WRF Reference Configuration and verification statistics will be made public by the D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736560" y="487440"/>
            <a:ext cx="8688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Medium"/>
              </a:rPr>
              <a:t>HWRF code management: </a:t>
            </a:r>
            <a:br>
              <a:rPr sz="3600"/>
            </a:br>
            <a:r>
              <a:rPr b="0" lang="en-GB" sz="1800" spc="-1" strike="noStrike">
                <a:solidFill>
                  <a:srgbClr val="4e3b30"/>
                </a:solidFill>
                <a:latin typeface="Franklin Gothic Medium"/>
              </a:rPr>
              <a:t>a new mechanism to facilitate collaboration between research and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98040" y="487080"/>
            <a:ext cx="8688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Medium"/>
              </a:rPr>
              <a:t>HWRF code management: </a:t>
            </a:r>
            <a:br>
              <a:rPr sz="2800"/>
            </a:br>
            <a:r>
              <a:rPr b="0" lang="en-GB" sz="1800" spc="-1" strike="noStrike">
                <a:solidFill>
                  <a:srgbClr val="4e3b30"/>
                </a:solidFill>
                <a:latin typeface="Franklin Gothic Medium"/>
              </a:rPr>
              <a:t>a new mechanism to facilitate collaboration between research and operation</a:t>
            </a:r>
            <a:endParaRPr b="0" lang="en-US" sz="1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98040" y="1553760"/>
            <a:ext cx="8356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Vision is that operations and research will be using the same code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Contributions from research community (third-level nesting, sea spray etc.) will be incorporated into general WRF repository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Regular tests (weekly regression tests, monthly performance tests etc.) will be conducted to assure that new contributions do not break the code or degrade the forecast skill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DTC and HFIP are collaborating to create a HWRF testing and evaluation framework on the HFIP njet Linux cluster in Boulder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By using common code and having a testing framework available, new developments can be evaluated and be available for potential operational implementation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3"/>
          <p:cNvSpPr/>
          <p:nvPr/>
        </p:nvSpPr>
        <p:spPr>
          <a:xfrm>
            <a:off x="901800" y="469800"/>
            <a:ext cx="72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HWRF project at the DTC – 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736560" y="1181160"/>
            <a:ext cx="81406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Franklin Gothic Book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HWRF physics and dynamics have been merged with V3.1.1 and are in branch of the WRF reposi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POM-TC, coupler and vortex initialization have been ported to DTC platfor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Initial tests have been per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Franklin Gothic Book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Branch code is being put on repository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Additional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Preparations for tu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60080"/>
            <a:ext cx="868824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Joint Hurricane Workshop &amp; Tutorial – Feb 22-26, 2010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82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99"/>
              </a:spcBef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a5644e"/>
                </a:solidFill>
                <a:latin typeface="Franklin Gothic Book"/>
              </a:rPr>
              <a:t>Jointly held by DTC and NCAR/MMM, will cover AHW and HWRF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31640" indent="-323640">
              <a:spcBef>
                <a:spcPts val="499"/>
              </a:spcBef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a5644e"/>
                </a:solidFill>
                <a:latin typeface="Franklin Gothic Book"/>
              </a:rPr>
              <a:t>Two-day workshop of hurricane forecasting science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31640" indent="-323640">
              <a:spcBef>
                <a:spcPts val="499"/>
              </a:spcBef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a5644e"/>
                </a:solidFill>
                <a:latin typeface="Franklin Gothic Book"/>
              </a:rPr>
              <a:t>Three-day “WRF for Hurricanes” tutorial, with hand-on practice sessions, will teach how to run WRF to simulate and forecast hurrican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8:00:36Z</dcterms:created>
  <dc:creator>Ligia Bernardet</dc:creator>
  <dc:description/>
  <dc:language>en-US</dc:language>
  <cp:lastModifiedBy>Ligia Bernardet</cp:lastModifiedBy>
  <dcterms:modified xsi:type="dcterms:W3CDTF">2009-10-14T18:03:32Z</dcterms:modified>
  <cp:revision>15</cp:revision>
  <dc:subject/>
  <dc:title>Slide 1</dc:title>
</cp:coreProperties>
</file>